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1CC9-43B2-4E53-BD39-B427D5AA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2767-0FF8-406B-A786-F4AC0AC9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30D-644F-40BD-802E-57442D16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68A-FFEA-4CFF-8A69-43696652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6F5-6ECC-4AFC-81C8-958CD717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5BE-3450-4534-B47F-9FEF9DAD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B5E-D97A-46C3-B98D-8CFE489C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1D4-2BB5-4A73-BC5B-363C8FE9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466-82B4-49B5-8DA1-0CBC58E4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815-6182-4D91-89A3-2EEF9BD0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5FD-C382-4D60-A0A6-3AC072B8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6BC-FD28-4330-99B3-35BD3B21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B91E-4BF5-4CB9-A600-5FA3F996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lantgdb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lantGDB: Annotation Principles &amp;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1219320" y="1295280"/>
            <a:ext cx="6705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98" t="3367" r="1355" b="0"/>
          <a:stretch/>
        </p:blipFill>
        <p:spPr>
          <a:xfrm>
            <a:off x="228600" y="76320"/>
            <a:ext cx="86439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5733" t="27159" r="27794" b="25191"/>
          <a:stretch/>
        </p:blipFill>
        <p:spPr>
          <a:xfrm>
            <a:off x="457200" y="33480"/>
            <a:ext cx="822960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Web-Based Gene Structure Anno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 local region using all available EST and protein mapp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 a gene structure (expert)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 contributed annotation through a cura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confirmed annotation to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422" r="1042" b="10934"/>
          <a:stretch/>
        </p:blipFill>
        <p:spPr>
          <a:xfrm>
            <a:off x="76320" y="68400"/>
            <a:ext cx="899136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228600" y="76320"/>
            <a:ext cx="86104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93" t="3795" r="26902" b="3119"/>
          <a:stretch/>
        </p:blipFill>
        <p:spPr>
          <a:xfrm>
            <a:off x="1219320" y="76320"/>
            <a:ext cx="6306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1680" y="76320"/>
            <a:ext cx="5767200" cy="642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65530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422" r="1042" b="0"/>
          <a:stretch/>
        </p:blipFill>
        <p:spPr>
          <a:xfrm>
            <a:off x="228600" y="-152280"/>
            <a:ext cx="87631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900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tgd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plantgdb.org/AtGD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, Schlueter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69-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Dong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800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er Bre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Wilk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al gen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es (Markov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c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ed gen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2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Seq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9560" y="1924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8560" y="2610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8560" y="2724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28386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8560" y="295272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30672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31813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8560" y="3295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3409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352440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8560" y="36385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3753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omic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25124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or prote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ffix Array/ Suffix T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38280"/>
            <a:ext cx="3200400" cy="354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4208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51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5004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24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152800"/>
            <a:ext cx="914400" cy="142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49840 h 1428480"/>
              <a:gd name="textAreaBottom" fmla="*/ 10357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4955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004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08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664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81280"/>
            <a:ext cx="101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4960" y="3352680"/>
            <a:ext cx="20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753000"/>
            <a:ext cx="60984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1560" y="358128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438280"/>
            <a:ext cx="223524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040" y="3638520"/>
            <a:ext cx="2260440" cy="743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664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552920"/>
            <a:ext cx="30456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2080" y="4552920"/>
            <a:ext cx="30456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552920"/>
            <a:ext cx="304920" cy="11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37160" y="4781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9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440" y="1924200"/>
            <a:ext cx="406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924200"/>
            <a:ext cx="711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6840" y="1924200"/>
            <a:ext cx="1930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6480" y="4952880"/>
            <a:ext cx="193032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5010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89280" y="212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30120"/>
            <a:ext cx="71625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44..160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320..390,504..579)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codon_start=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tein_id="CAA44171.1"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GI:16354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SWISS-PROT:P31169"  I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translation=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SETNKNAFQAGQAAGKAERRRAMFCWTRPRMLLLQLELPRNRA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KSISDAAVGGVNFVKDKTGLNK"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161..31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320..390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391..503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504..&gt;57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3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57913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    ATKIN2        880 bp    DNA             PLN       23-JUL-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ST Accession 3450035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1     78    160 (  83 n);  cDNA      1     80 (  80 n); score: 0.86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1    161    321 ( 161 n);  Pd: 0.976 (s: 0.90), Pa: 0.972 (s: 1.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2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90 (  69 n);  cDNA     81    149 (  69 n); score: 0.97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2    391    504 ( 114 n);  Pd: 0.999 (s: 0.96), Pa: 0.964 (s: 0.9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3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785 ( 281 n);  cDNA    150    429 ( 280 n); score: 0.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lignment (genomic DNA sequence = upper line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AAAGCT GAGGTACTCT TTCTCTCTTA GAACAGAGTA CTGATAGATT      1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|||| |||| ||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CAAGCT GAG....... .......... .......... ..........      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TAGGAGAAG AGCAATGTTC TGCTGGACAA GGCCAAGGAT GCTGCTGCTG CAGCTGGAGC      37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||||||| |||||||||| |||||||||| |||||||||| 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GAGAAG AGCAATGTTC TGCTGGACAA GGCCAAGGAT GCTGCTGCTG CAGCTGGAGN      1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GCAA CAGGTAAACG ATCTATACAC ACATTATGAC ATTTATGTAA AGAATGAAAA      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NCAA CAG....... .......... .......... .......... ..........      1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TATAGGCG GGAAAGAGTA TATCGGATGC GGCAGTGGGA GGTGTTAACT TCGTGAAGGA      5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 |||||||||| |||||||||| |||||||||| |||||||||  |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GCG GGAAAGAGTA TATCGGATGC GGCAGTGGGA GGTGTTAAC- TCGTGAAGGA      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143000"/>
            <a:ext cx="23623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erroneous GenBank annotation.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Bank CDS gives incorrect assignment of both acceptor sites (319 should be 321, 503 should be 504), as pointed out by Korn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 (1996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liced alignment with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idops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by the GeneSeqer program [Usuka &amp; Brendel, 2000] proves the correct assignment (identities between the genomic DNA, upper lines, and EST, lower lines, are indicated by |; positions of the rightmost residues in each sequence block are given on the right; introns are indicated by …; for brevity, some sequence segments are replaced b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/////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erroneous intron assignment led to an incorrect protein sequence prediction (Pfalse).  Both the incorrect sequence and the correct protein sequence (Pcorrect) persist in the NCBI non-redundant protein database under different accessions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80" y="1587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ATKIN2 880 bp  DNA PLN 23-JUL-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0340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2240" y="13240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4880" y="353376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 AN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" y="41911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42240" y="4830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5119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5079"/>
          <a:stretch/>
        </p:blipFill>
        <p:spPr>
          <a:xfrm>
            <a:off x="2227320" y="249120"/>
            <a:ext cx="6535800" cy="636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0520" y="6858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85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219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384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438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11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92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629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295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438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2767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40" y="1676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-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2590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GR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" y="4648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the PlantGDB Annotation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sually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oth curators &amp; communit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e automated &amp; non-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namic &amp;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ommunity “ owned &amp; operated 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Structure Annota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erge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notated genes actually correspond to a single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ro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notated gene structure actually contains two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negative gene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incorrect gene annotation, missing annotation of alternative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35:17Z</dcterms:created>
  <dc:creator>Shannon </dc:creator>
  <dc:description/>
  <dc:language>en-US</dc:language>
  <cp:lastModifiedBy>Shannon </cp:lastModifiedBy>
  <dcterms:modified xsi:type="dcterms:W3CDTF">2004-04-26T17:18:36Z</dcterms:modified>
  <cp:revision>8</cp:revision>
  <dc:subject/>
  <dc:title>Slide 1</dc:title>
</cp:coreProperties>
</file>